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bark.wav" ContentType="audio/x-wav"/>
  <Override PartName="/ppt/media/featurepresentation.wav" ContentType="audio/x-wav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7.png" ContentType="image/png"/>
  <Override PartName="/ppt/media/briliant.wav" ContentType="audio/x-wav"/>
  <Override PartName="/ppt/media/image9.png" ContentType="image/png"/>
  <Override PartName="/ppt/media/image10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ACB-D489-4B5C-9299-50CFF184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4DE-BB4D-4F80-AC26-C1C900B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3B0-716B-486A-B626-12F21857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4FA-9BA3-4CDD-9342-D0B59363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3A73-21DF-4680-B10B-2934BE35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2CB4-E532-4E64-A328-51D79240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C294-19C6-48CB-9BF5-9AABCB36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BFC1-152F-496D-8D1F-B3E2D691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87B1-4670-48D1-819C-7480E180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7172-FF8C-4973-9C3E-12893EC2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1FFE-ADA3-4DA2-9061-0A3219B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65E-9406-4FB4-B960-8473B77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793D-77E7-4E7D-AE39-0D2F255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F3D1-F9D4-4EC6-AD40-2881DC9D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5736-D619-4A28-AF2A-9F311C06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31DE-A6D6-4143-B73E-2DE17903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C4AB-09CA-4F1F-BE6D-9B29AF1A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FAD-3933-4DD9-AF11-A82D3094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003-BB9E-4643-A039-02741D69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A06-5850-46FC-86AC-C1398C9A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AA6-BAA6-4B8F-9FD6-26017D16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395-7015-4D64-A386-661FD528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D8B-720F-44F2-B4E9-56213AB9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D69-CD7D-4F10-A35C-1300113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834E-1C43-4C1A-BA85-26AF830A45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2E5E-6120-4C2B-9EDE-72B5A3B2E1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kesybelia.ocps.k12.fl.us/images/Excited.gif" TargetMode="External"/><Relationship Id="rId2" Type="http://schemas.openxmlformats.org/officeDocument/2006/relationships/image" Target="../media/image1.png"/><Relationship Id="rId3" Type="http://schemas.openxmlformats.org/officeDocument/2006/relationships/audio" Target="../media/featurepresentation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bar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rilian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zyred.com/subjects.html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hyperlink" Target="D:%255CCLICK-ME.pps" TargetMode="External"/><Relationship Id="rId5" Type="http://schemas.openxmlformats.org/officeDocument/2006/relationships/hyperlink" Target="D:%255CCLICK-ME.pps" TargetMode="External"/><Relationship Id="rId6" Type="http://schemas.openxmlformats.org/officeDocument/2006/relationships/image" Target="../media/image10.gif"/><Relationship Id="rId7" Type="http://schemas.openxmlformats.org/officeDocument/2006/relationships/hyperlink" Target="D:%5CCLICK-ME.pps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Subjects of Sentences</a:t>
            </a:r>
            <a:endParaRPr b="1" lang="en-US" sz="5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roject LA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ci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6000"/>
            <a:ext cx="218268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d"/>
    <p:sndAc>
      <p:stSnd>
        <p:snd r:embed="rId3" name="featurepresenta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464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Every complete sentence contains two parts: a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and a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what (or whom) the sentence is about, while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lls something about the subjec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at"/>
          <p:cNvPicPr/>
          <p:nvPr/>
        </p:nvPicPr>
        <p:blipFill>
          <a:blip r:embed="rId1"/>
          <a:stretch/>
        </p:blipFill>
        <p:spPr>
          <a:xfrm>
            <a:off x="6400800" y="4419720"/>
            <a:ext cx="2133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2" name="Picture 4" descr="beach1"/>
          <p:cNvPicPr/>
          <p:nvPr/>
        </p:nvPicPr>
        <p:blipFill>
          <a:blip r:embed="rId1"/>
          <a:stretch/>
        </p:blipFill>
        <p:spPr>
          <a:xfrm>
            <a:off x="1371600" y="2362320"/>
            <a:ext cx="678168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ogrun"/>
          <p:cNvPicPr/>
          <p:nvPr/>
        </p:nvPicPr>
        <p:blipFill>
          <a:blip r:embed="rId2"/>
          <a:stretch/>
        </p:blipFill>
        <p:spPr>
          <a:xfrm>
            <a:off x="2362320" y="2133720"/>
            <a:ext cx="2462040" cy="447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ogging"/>
          <p:cNvPicPr/>
          <p:nvPr/>
        </p:nvPicPr>
        <p:blipFill>
          <a:blip r:embed="rId3"/>
          <a:stretch/>
        </p:blipFill>
        <p:spPr>
          <a:xfrm>
            <a:off x="5638680" y="36576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bar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ogging"/>
          <p:cNvPicPr/>
          <p:nvPr/>
        </p:nvPicPr>
        <p:blipFill>
          <a:blip r:embed="rId1"/>
          <a:stretch/>
        </p:blipFill>
        <p:spPr>
          <a:xfrm>
            <a:off x="7162920" y="5029200"/>
            <a:ext cx="118584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ogrun"/>
          <p:cNvPicPr/>
          <p:nvPr/>
        </p:nvPicPr>
        <p:blipFill>
          <a:blip r:embed="rId2"/>
          <a:stretch/>
        </p:blipFill>
        <p:spPr>
          <a:xfrm>
            <a:off x="5638680" y="4724280"/>
            <a:ext cx="1462320" cy="180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914400" y="2514600"/>
            <a:ext cx="6858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or what is this sentence abou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nswer is the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subject, Judy and her dog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Let’s try one: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3123720"/>
            <a:ext cx="7693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spilled popcorn on the floo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838080" y="50292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popcorn1"/>
          <p:cNvPicPr/>
          <p:nvPr/>
        </p:nvPicPr>
        <p:blipFill>
          <a:blip r:embed="rId1"/>
          <a:stretch/>
        </p:blipFill>
        <p:spPr>
          <a:xfrm>
            <a:off x="7391520" y="304920"/>
            <a:ext cx="1523880" cy="165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boygirlyeah"/>
          <p:cNvPicPr/>
          <p:nvPr/>
        </p:nvPicPr>
        <p:blipFill>
          <a:blip r:embed="rId2"/>
          <a:stretch/>
        </p:blipFill>
        <p:spPr>
          <a:xfrm>
            <a:off x="4724280" y="838080"/>
            <a:ext cx="2857680" cy="111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Who or what is the subject?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spilled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838080" y="36576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pilled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tells who spilled the popco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boygirlyeah"/>
          <p:cNvPicPr/>
          <p:nvPr/>
        </p:nvPicPr>
        <p:blipFill>
          <a:blip r:embed="rId1"/>
          <a:stretch/>
        </p:blipFill>
        <p:spPr>
          <a:xfrm>
            <a:off x="6286680" y="5743440"/>
            <a:ext cx="2857320" cy="1114560"/>
          </a:xfrm>
          <a:prstGeom prst="rect">
            <a:avLst/>
          </a:prstGeom>
          <a:ln w="0">
            <a:noFill/>
          </a:ln>
        </p:spPr>
      </p:pic>
    </p:spTree>
  </p:cSld>
  <p:transition>
    <p:cover dir="ld"/>
    <p:sndAc>
      <p:stSnd>
        <p:snd r:embed="rId2" name="briliant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tudents carried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id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My little bro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His Uncle Bo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Those stud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rried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Our babysit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ived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1480" y="3958200"/>
            <a:ext cx="8389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Now that you know all about subjects and predicates, try the subject and predicate song and sing along!  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24" name="Picture 4" descr="clickhere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5486400"/>
            <a:ext cx="2057400" cy="90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kids_line_2"/>
          <p:cNvPicPr/>
          <p:nvPr/>
        </p:nvPicPr>
        <p:blipFill>
          <a:blip r:embed="rId3"/>
          <a:stretch/>
        </p:blipFill>
        <p:spPr>
          <a:xfrm>
            <a:off x="2514600" y="685800"/>
            <a:ext cx="4724280" cy="11048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2">
            <a:hlinkClick r:id="rId4"/>
          </p:cNvPr>
          <p:cNvSpPr/>
          <p:nvPr/>
        </p:nvSpPr>
        <p:spPr>
          <a:xfrm>
            <a:off x="6172200" y="518148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logo-projectla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5238720"/>
            <a:ext cx="762120" cy="704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6400800" y="585144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 Unicode MS"/>
                <a:hlinkClick r:id="rId7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3:24:38Z</dcterms:created>
  <dc:creator>Jefferson County Schools</dc:creator>
  <dc:description/>
  <dc:language>en-US</dc:language>
  <cp:lastModifiedBy>Laura McDow</cp:lastModifiedBy>
  <dcterms:modified xsi:type="dcterms:W3CDTF">2010-07-29T16:32:57Z</dcterms:modified>
  <cp:revision>14</cp:revision>
  <dc:subject/>
  <dc:title>Subjects &amp; Predicates</dc:title>
</cp:coreProperties>
</file>